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7B0-A85D-4182-8597-568804C7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F47-8D0E-41C2-9A77-1B4ADC7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71C-C317-49ED-8BDD-645626FA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528-3AB3-4C01-86E9-124DD35D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678-5B5F-4FBC-BE9D-E7BD1B08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7A5-DA45-4217-A9C8-4C3A2516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737-6AB9-4587-BC91-D48CA559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407-61E5-4179-A1D6-05DB7F08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DCC-3AB0-458B-8B5C-2ED5A98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CA2-11AB-4BED-AFAD-A3DB76C9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173-C5E0-42FA-8D16-81A8062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4CC-F608-4757-ACD5-1558880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D624-24DF-4E3F-94C0-E09C30CB9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A Silver white me used in therm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: Liquid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: 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mer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11680" y="1630440"/>
            <a:ext cx="2770200" cy="2031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29240" y="4343400"/>
            <a:ext cx="180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flow of 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awestru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2-16T16:35:49Z</dcterms:modified>
  <cp:revision>3</cp:revision>
  <dc:subject/>
  <dc:title>PowerPoint Presentation</dc:title>
</cp:coreProperties>
</file>